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cashreg.wav" ContentType="audio/x-wav"/>
  <Override PartName="/ppt/media/image5.jpeg" ContentType="image/jpeg"/>
  <Override PartName="/ppt/media/image6.jpeg" ContentType="image/jpe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564F-1007-4E3F-A927-1E2FE361C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46936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6E19-B80E-442D-9841-8CE746B3E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EDEA64-60EE-4EAB-944A-3DB482FB2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A02A7C-8368-4FC4-A931-42281411B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68360" y="764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6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3F0DEB-51E2-4D1D-9D41-93D88D706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C7B2B6-8D43-41D4-A874-8D182562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8540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6DBDC9-FD79-49A0-A440-AA0EDE56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11F525-F6E8-4FA0-AAF7-E072772E8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8360" y="46936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B358ED-206F-45EC-948F-BE6782C61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8540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22C37C-EC8E-42DA-9B2A-E86B198C0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5080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3324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836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5080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3324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BF5D9B-3D28-4922-8CDD-3AF4E5D56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7258FF-BC1B-4B48-AABF-C87D721A9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40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C30B-1EB0-4EF8-BE48-E2D1BB1B7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50"/>
              </a:spcBef>
              <a:spcAft>
                <a:spcPts val="20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5B2A26-C0E0-4BEC-8EDE-7A8437670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652728-4013-4628-84A9-96DBC21A5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25957E-164B-4A2B-BE69-20A009178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F2A788-8969-413D-97AA-D38F18511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68360" y="764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6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C097B1-9271-4048-8494-5E0D5DF57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416472-0060-4DC4-AE45-45FE1FCC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8540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BB58D5-8A7B-4211-8C85-472CCEE0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8624FD-DE9B-485D-8973-CC8B3DCD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8360" y="46936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1D77A2-54CB-4A6A-AFED-38BFD7BC5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8540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B37FC1-4225-4103-8170-B665BF516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080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324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080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324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EDDC-871D-4327-A4D1-C562BE882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5080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3324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836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5080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3324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4B1A85-6C5A-4133-98C0-700F89530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4260E6-FA98-4314-B7B4-A2E38B839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50"/>
              </a:spcBef>
              <a:spcAft>
                <a:spcPts val="20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BE551D-8B66-4731-9A49-61A37200D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97C5B2-0AC6-4C81-85F4-3229539EC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54AA99-2E5A-4BEA-84CF-00A1386C8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1077EF-151F-4567-AB1D-5D3C0D9C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68360" y="764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6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D8D790-60B3-4766-B9AC-3EE584D9A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189D89-97FC-4ED0-9794-D876D111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8540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1A3FC2-E5D6-48D9-9B75-3D5DE3DF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C6F2B9-22F9-445B-8465-77705B47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6B903-8B81-4674-A218-00DD4B6DC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8360" y="46936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6B6442-871D-4E57-B990-1D32FAB47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8540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A2AE01-9A9E-4D3E-BDED-F25A1EE45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5080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3324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836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5080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3324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426086-16CC-4A41-B5FF-98438906A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73D3D0-A643-4725-9908-CFD0EB23F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50"/>
              </a:spcBef>
              <a:spcAft>
                <a:spcPts val="20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638145-C6FD-4248-A1D9-24BBF9492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1A9140-A5C1-40E1-AF21-8CACB9040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400E9C-48B0-41E6-8D73-51127B8CA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997102-0A79-4136-B235-FC847CCBA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68360" y="764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6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0804A4-75A7-4B41-8D2C-9BF3CCF4F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A73EB7-73E8-4BA5-8117-3EBFA53F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50"/>
              </a:spcBef>
              <a:spcAft>
                <a:spcPts val="20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10C6F-195B-4DBF-8985-485BAA10D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8540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8CFF1C-26E6-43C2-85B0-224C088A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7AEDB8-1230-4CAC-9EFA-BBA06386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8360" y="46936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4045A2-D30D-4433-8007-B4529F661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8540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11840F-F0F7-4265-A0A2-CB104A3AE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5080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3324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836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5080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3324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1440EF-3950-4BEF-9804-199BD0C75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0296C-AD29-4816-938D-AEBC19D88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48389-0539-4A36-8EF7-4C6C8A75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04E17-E9BD-47A2-BFF9-0545B50DD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68360" y="764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6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D3842-D233-4FFE-894F-156BC01F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44894-9370-45BD-BEF5-E42F3FC5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50"/>
              </a:spcBef>
              <a:spcAft>
                <a:spcPts val="20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1D80-56F7-4AE4-A21A-EE120D74D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540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59B65-7EA7-45AA-ADB3-EEC9F8CD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B858A-0CF8-4D67-A6F6-627D31F0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360" y="46936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469C4-189C-44FB-9C3F-081B668BB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540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02FB7-7154-4631-99AC-33ADBE0DA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5080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3324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836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5080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3324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341B1-B026-46EA-AA7C-AEA486C8B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1AD8C-0E5E-43B1-A94C-67404ACC4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50"/>
              </a:spcBef>
              <a:spcAft>
                <a:spcPts val="20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A3CE4-86D0-4FE2-9CFD-93191FE63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6BEC7-CEFD-476B-B25A-671C8D6DF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821E2-4CB6-4231-B9C3-E32633B1B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B2DFE-171F-41C5-8049-95AB8BC04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1CC4-3044-4EFA-93CE-13123C9FF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68360" y="764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6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62C83-12C6-4C6F-B2A6-69475A8DE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E64E2-9563-428C-8D6C-DA605400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8540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39445-1C89-404C-AD31-2970F1CE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431A7-859B-4BCD-9CE4-94A6E25D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360" y="46936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D9148-BC73-4353-B99A-5D936EA27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8540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DDF65-84CD-41C4-B8D0-21DA40344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5080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3324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836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5080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3324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1872A-5D14-491C-BD44-C22A1FC8F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017C8-8E96-41AB-99D9-ED65FEA71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50"/>
              </a:spcBef>
              <a:spcAft>
                <a:spcPts val="20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DC811-F099-4A2F-831D-2FC1DBF84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98751-31C4-46D7-BC14-AE466FA0B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BF45-5BCE-4E95-B288-51EC3C77F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C4302-0423-46E5-80B4-8D2F0166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6C27A-FD2E-4F5B-9882-F307B4BB1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68360" y="764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6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BFFD6-7CAD-46F8-B948-2F2802B2A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78FCD-6429-4582-BB20-D10F3004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8540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BABA3-8B65-4349-88A1-84EE1D0F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22089-BBB6-4C7D-990C-F87FCDC0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8360" y="46936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C0416-E3E7-4DFA-ACED-654803FED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8540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FA310-A761-4803-8168-5488DE92D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5080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3324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836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5080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3324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8FA7C-016B-4CE6-892B-0FE5D65BE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6A172-606C-45D9-A1FB-797DD83B0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DA2C-F135-49FE-949C-E76384642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50"/>
              </a:spcBef>
              <a:spcAft>
                <a:spcPts val="20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C4235-4F76-4A02-B45D-454941555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DB14A-3D2F-407B-BB8F-8BFA8773A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551CF-2280-4BE3-81EB-EA266B875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2C3A4-8AC3-4CFA-9F76-0E7894111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68360" y="764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6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0D795-8BA8-4621-B044-A537721AA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C615D-951D-462F-ABA6-0BDF2D29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8540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1F6B2-E431-4015-A1A5-447998FA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07854-A3FD-42E1-A672-4E364C4A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8360" y="46936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C0FE7-ED46-47C5-8428-5F9872E88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8540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09E2C-EE37-4304-B703-D5D77E4C5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764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6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0D24-9255-42E5-97DA-5C27CE683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5080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3324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836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5080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3324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C2465-DA7A-4737-80B2-7ADCC2300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8F774-90E6-44A9-9E52-B29492BFA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50"/>
              </a:spcBef>
              <a:spcAft>
                <a:spcPts val="20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84304-2D25-4679-8E58-4AF698A6D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28196-7419-4FFC-9EF2-83E7EC016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E6C21-C34A-47B4-BB7E-94978B42C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4FA72-C1CE-4CF4-A455-1EF9FE2B5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68360" y="764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6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CFF5F-9E12-44DC-B5AC-D239EA9D5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14259-FC22-4247-BCEE-55D1CE8A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8540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57D09-ADB9-4C1A-B803-4D52F315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8C116-7162-4BA5-905E-860B1211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E869-1CC6-46E0-9758-712EDBB0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360" y="46936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5C3A6-974D-4B93-A25D-1ADC63B4B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8540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8F5A2-4E2C-46AA-8B62-27D6A6E24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080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3324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836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080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3324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A33370-FB53-444E-97EB-C5C61475E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7BE512-6F74-48F7-85B5-6EB999784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50"/>
              </a:spcBef>
              <a:spcAft>
                <a:spcPts val="20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A1374-C47F-4440-82F5-538D2C006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5B3F6C-028F-4B09-94F1-AC609363C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E66F0-C535-48A2-A262-4B0839A72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24FDAB-CB65-4EBC-A089-DFDB82902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68360" y="764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6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C9554-50FA-4247-9591-417226662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018EB-D005-4FE0-86CE-2F1C8FF4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40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CF24-4522-4C7A-98DF-ADF9C0D1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8540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FFF76-B427-4F59-9A0C-90234866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E956CE-D7EC-44DE-9140-0BA45402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8360" y="46936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73150-0923-49B9-AADC-5DC0CBC3E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8540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47BD89-A1DD-4806-9592-328027ADB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5080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3324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836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5080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3324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07FEBB-3397-4697-B615-9E6F58854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7B67A0-77D0-40AC-8EBD-646B7AFF2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50"/>
              </a:spcBef>
              <a:spcAft>
                <a:spcPts val="20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24505D-3A3A-48D8-A216-6145576DF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3B63FC-E37C-44C2-8C9D-759C487ED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2AAF5F-13B5-4559-93F6-22FCA817F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C22F3B-50F9-4E55-9525-851DF0362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DBD4-A798-4D0D-AE6C-74159377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68360" y="764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6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381110-41A4-4FE6-8D24-88E60FECA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069A1A-A6E3-4DEF-B3DC-62759FBE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8540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418568-D221-437B-AD9F-8BD49783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94564A-196F-453E-92BC-09C99DBF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8360" y="46936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C5C13F-D6F2-4431-9383-008459973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8540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DACC2A-BB50-41DD-954B-BF06EA570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080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3324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836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080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3324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E27F2C-E67C-45DC-BA50-BA3613BCF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8E7089-6C7B-4E25-A2D2-C6C786A6F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50"/>
              </a:spcBef>
              <a:spcAft>
                <a:spcPts val="20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AFA533-766E-4D05-99EF-FA10D4854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4BF2A5-BE63-4D0C-BCE6-3FBEF1FBB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3F08F-0E69-4D73-BFE6-625CE1BAF83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dt" idx="28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ftr" idx="29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sldNum" idx="30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EA1A6-DBD8-4E73-BDBA-2A68F2CBE1F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15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PlaceHolder 1"/>
          <p:cNvSpPr>
            <a:spLocks noGrp="1"/>
          </p:cNvSpPr>
          <p:nvPr>
            <p:ph type="body"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11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  <a:p>
            <a:pPr lvl="1" marL="542160" indent="-20844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  <a:p>
            <a:pPr lvl="2" marL="834120" indent="-166680">
              <a:spcBef>
                <a:spcPts val="1199"/>
              </a:spcBef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  <a:p>
            <a:pPr lvl="3" marL="1167840" indent="-166680">
              <a:spcBef>
                <a:spcPts val="11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  <a:p>
            <a:pPr lvl="4" marL="1501560" indent="-166680">
              <a:spcBef>
                <a:spcPts val="1199"/>
              </a:spcBef>
              <a:buClr>
                <a:srgbClr val="ff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  <a:p>
            <a:pPr lvl="5" marL="1501560" indent="-166680">
              <a:spcBef>
                <a:spcPts val="11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  <a:p>
            <a:pPr lvl="6" marL="1501560" indent="-166680">
              <a:spcBef>
                <a:spcPts val="11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7AA53-AC58-4EB4-83DA-97A3C229376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62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PlaceHolder 1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16E26-F6B4-4254-B7C1-1306AAC6690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title"/>
          </p:nvPr>
        </p:nvSpPr>
        <p:spPr>
          <a:xfrm>
            <a:off x="539640" y="765000"/>
            <a:ext cx="7772400" cy="19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1" lang="en-US" sz="6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5C5F7-AAAC-44FE-B788-502AD1E81E3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539640" y="846000"/>
            <a:ext cx="8604360" cy="1006560"/>
            <a:chOff x="539640" y="846000"/>
            <a:chExt cx="8604360" cy="1006560"/>
          </a:xfrm>
        </p:grpSpPr>
        <p:sp>
          <p:nvSpPr>
            <p:cNvPr id="46" name=""/>
            <p:cNvSpPr/>
            <p:nvPr/>
          </p:nvSpPr>
          <p:spPr>
            <a:xfrm>
              <a:off x="1474920" y="1494000"/>
              <a:ext cx="7418160" cy="134640"/>
            </a:xfrm>
            <a:prstGeom prst="flowChartAlternateProcess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97840" y="846000"/>
              <a:ext cx="1046160" cy="78264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9640" y="907920"/>
              <a:ext cx="989280" cy="944640"/>
            </a:xfrm>
            <a:prstGeom prst="ellipse">
              <a:avLst/>
            </a:prstGeom>
            <a:noFill/>
            <a:ln w="889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619280" y="1197000"/>
              <a:ext cx="144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ff"/>
                  </a:solidFill>
                  <a:latin typeface="Vineta BT"/>
                  <a:ea typeface="華康儷簡宋(P)"/>
                </a:rPr>
                <a:t>XDZ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2B305-F1A2-4D37-A19E-A40C6207934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0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11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12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B3DCD-4BFF-4810-B21A-AEDE77516F9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1" lang="en-US" sz="4400" spc="-1" strike="noStrike">
              <a:solidFill>
                <a:srgbClr val="007a77"/>
              </a:solidFill>
              <a:latin typeface="Arial"/>
            </a:endParaRPr>
          </a:p>
          <a:p>
            <a:pPr lvl="1" marL="549720" indent="-211320">
              <a:spcBef>
                <a:spcPts val="1100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1" lang="en-US" sz="4400" spc="-1" strike="noStrike">
              <a:solidFill>
                <a:srgbClr val="007a77"/>
              </a:solidFill>
              <a:latin typeface="Arial"/>
            </a:endParaRPr>
          </a:p>
          <a:p>
            <a:pPr lvl="2" marL="845640" indent="-168840">
              <a:spcBef>
                <a:spcPts val="1100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1" lang="en-US" sz="4400" spc="-1" strike="noStrike">
              <a:solidFill>
                <a:srgbClr val="007a77"/>
              </a:solidFill>
              <a:latin typeface="Arial"/>
            </a:endParaRPr>
          </a:p>
          <a:p>
            <a:pPr lvl="3" marL="1184040" indent="-168840">
              <a:spcBef>
                <a:spcPts val="1100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1" lang="en-US" sz="4400" spc="-1" strike="noStrike">
              <a:solidFill>
                <a:srgbClr val="007a77"/>
              </a:solidFill>
              <a:latin typeface="Arial"/>
            </a:endParaRPr>
          </a:p>
          <a:p>
            <a:pPr lvl="4" marL="1522440" indent="-168840">
              <a:spcBef>
                <a:spcPts val="1100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1" lang="en-US" sz="4400" spc="-1" strike="noStrike">
              <a:solidFill>
                <a:srgbClr val="007a77"/>
              </a:solidFill>
              <a:latin typeface="Arial"/>
            </a:endParaRPr>
          </a:p>
          <a:p>
            <a:pPr lvl="5" marL="1522440" indent="-168840">
              <a:spcBef>
                <a:spcPts val="1100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1" lang="en-US" sz="4400" spc="-1" strike="noStrike">
              <a:solidFill>
                <a:srgbClr val="007a77"/>
              </a:solidFill>
              <a:latin typeface="Arial"/>
            </a:endParaRPr>
          </a:p>
          <a:p>
            <a:pPr lvl="6" marL="1522440" indent="-168840">
              <a:spcBef>
                <a:spcPts val="1100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1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20BEC-8B92-4764-BDEF-218909095A9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B0705-0156-44B8-8174-3B2A0C151D3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dt" idx="19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ftr" idx="20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sldNum" idx="21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3482E-D28F-421B-BA6E-B9DB0FD4734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C6E64-D306-4E62-A2B6-C3FCA6ADA18D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5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6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7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C1452-CF76-4246-9078-C6601C78AB1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572"/>
                </a:solidFill>
                <a:latin typeface="Arial"/>
              </a:rPr>
              <a:t>期末复习班会系列一</a:t>
            </a:r>
            <a:endParaRPr b="0" lang="en-US" sz="6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1908000" y="2276640"/>
            <a:ext cx="510552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永不落山的太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178920" y="1125000"/>
            <a:ext cx="854100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失败者寻找借口，推卸责任；成功者承担责任，寻找方法。</a:t>
            </a:r>
            <a:endParaRPr b="1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你到底是推卸责任，还是承担责任？是寻找借口，还是寻找方法？</a:t>
            </a:r>
            <a:endParaRPr b="1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世界球王贝利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多年的足球生涯里，参加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36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场比赛，共踢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28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球。并创造了一个队员在一场比赛中射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球的纪录。他超凡的技艺不仅令万千观众心醉，而且常使球场上的对手拍手称绝。他不仅球艺高超，而且谈吐不凡。当他个人进球记录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时，有人问他：“您哪个球踢得最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?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贝利笑了，意味深长地说：“下一个。”他的回答含蓄幽默，耐人寻味，像他的球艺一样精彩。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启示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在迈向成功的道路上，每当实现了一个近期目标，决不应自满，而应迎接新的成功，应把原来的成功当成是新的成功的起点，千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能自我满足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才永远有新的目标，才能攀登新的高峰，才能获得成功者的无穷无尽的乐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411280" y="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下一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5f5f5f"/>
                </a:solidFill>
                <a:latin typeface="Arial"/>
              </a:rPr>
              <a:t>狮子和羚羊的家教</a:t>
            </a:r>
            <a:br>
              <a:rPr sz="5400"/>
            </a:br>
            <a:br>
              <a:rPr sz="5400"/>
            </a:br>
            <a:endParaRPr b="1" lang="en-US" sz="5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每天，当太阳升起的时候，非洲大草原上的动物们就开始奔跑了。</a:t>
            </a:r>
            <a:br>
              <a:rPr sz="4400"/>
            </a:b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       狮子妈妈在教育自己的孩子，你必须跑得再快一点，再快一点，你要是跑不过最慢的羚羊，你就会活活地饿死。”</a:t>
            </a:r>
            <a:br>
              <a:rPr sz="4400"/>
            </a:b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在另外一个场地上，羚羊妈妈也在教育自己的孩子：“孩子，你必须跑得再快一点，再快一点，如果你不能比跑得最快的狮子还要快，那你就肯定会被他们吃掉。” 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39528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　秘诀</a:t>
            </a: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记住，你跑得快，别人跑得更快。</a:t>
            </a: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[</a:t>
            </a: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赶超对手</a:t>
            </a: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]</a:t>
            </a: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3" dur="2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63280" y="62028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一、仔细制定一个考前复习计划</a:t>
            </a:r>
            <a:r>
              <a:rPr b="1" lang="zh-CN" sz="8000" spc="-1" strike="noStrike">
                <a:solidFill>
                  <a:srgbClr val="0000ff"/>
                </a:solidFill>
                <a:latin typeface="Times New Roman"/>
                <a:ea typeface="隶书"/>
              </a:rPr>
              <a:t> </a:t>
            </a:r>
            <a:endParaRPr b="0" lang="en-US" sz="8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58560" y="981000"/>
            <a:ext cx="7620120" cy="55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凡事预则立，不预则废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692360" y="3933720"/>
            <a:ext cx="70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在安排学习任务时，要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轻重缓急</a:t>
            </a: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得当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1403280" y="404280"/>
            <a:ext cx="73454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二、有效利用复习时间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恩格斯说：“没有计划的学习简直就是荒唐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平时，同学们浪费时间的现象非常普遍。如：聊天、没有节制地玩、无目的的东张西望、无目的的看与学习无关的书、为崇拜的人分散精力、看或写不必要的东西等等。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5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1331640" y="404280"/>
            <a:ext cx="75610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三、讲究复习方法，提高复习效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一，对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基础知识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和概念的来龙去脉要搞清楚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二，对知识和概念的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易混点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也就是难点要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归纳类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三，不能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眼高手低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只看不做，适当的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练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是必要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1331640" y="981000"/>
            <a:ext cx="74898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1 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00"/>
                </a:solidFill>
                <a:latin typeface="新宋体"/>
                <a:ea typeface="新宋体"/>
              </a:rPr>
              <a:t>在回扣复习阶段一定要注意各科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时间上的合理分配，</a:t>
            </a:r>
            <a:r>
              <a:rPr b="1" lang="zh-CN" sz="3600" spc="-1" strike="noStrike">
                <a:solidFill>
                  <a:srgbClr val="0000ff"/>
                </a:solidFill>
                <a:latin typeface="新宋体"/>
                <a:ea typeface="新宋体"/>
              </a:rPr>
              <a:t>要齐头并进。一枝独秀不是春，百花齐放春满园</a:t>
            </a:r>
            <a:r>
              <a:rPr b="1" lang="zh-CN" sz="3200" spc="-1" strike="noStrike">
                <a:solidFill>
                  <a:srgbClr val="003300"/>
                </a:solidFill>
                <a:latin typeface="新宋体"/>
                <a:ea typeface="新宋体"/>
              </a:rPr>
              <a:t>。各科要均衡发展，每门功课都要复习到位，不能对优势学科掉以轻心，也不能对薄弱学科失去信心。只是不同层次的功课，对你要求各不相同，复习的目标和策略做到相应变化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3300"/>
                </a:solidFill>
                <a:latin typeface="新宋体"/>
                <a:ea typeface="新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互帮互学，共同进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独学而无友，则孤陋而寡闻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340000" y="1989000"/>
            <a:ext cx="568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523880" y="189000"/>
            <a:ext cx="762012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特别提醒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1042920" y="1557360"/>
            <a:ext cx="777708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     </a:t>
            </a:r>
            <a:r>
              <a:rPr b="1" lang="zh-CN" sz="5400" spc="-1" strike="noStrike">
                <a:solidFill>
                  <a:srgbClr val="00ffff"/>
                </a:solidFill>
                <a:latin typeface="宋体"/>
              </a:rPr>
              <a:t>既然我们选择了远方，就只顾风雨兼程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ff"/>
                </a:solidFill>
                <a:latin typeface="华文行楷"/>
                <a:ea typeface="华文行楷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cc"/>
                </a:solidFill>
                <a:latin typeface="华文行楷"/>
                <a:ea typeface="华文行楷"/>
              </a:rPr>
              <a:t>                          </a:t>
            </a:r>
            <a:r>
              <a:rPr b="1" lang="zh-CN" sz="4400" spc="-1" strike="noStrike">
                <a:solidFill>
                  <a:srgbClr val="ffff00"/>
                </a:solidFill>
                <a:latin typeface="华文隶书"/>
                <a:ea typeface="华文隶书"/>
              </a:rPr>
              <a:t>——</a:t>
            </a:r>
            <a:r>
              <a:rPr b="1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汪国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-360" y="620640"/>
            <a:ext cx="867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心向着自己目标前进的人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整个世界都给他让路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         ——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爱默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5" dur="1" fill="hold"/>
                                  <p:tgtEl>
                                    <p:spTgt spid="51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每个人都有潜在的能量，只是很容易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被习惯所掩盖，被时间所迷离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被惰性所消磨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95280" y="4221000"/>
            <a:ext cx="87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行楷"/>
              </a:rPr>
              <a:t>吃得苦中苦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行楷"/>
              </a:rPr>
              <a:t>,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行楷"/>
              </a:rPr>
              <a:t>方为人上人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" descr=""/>
          <p:cNvPicPr/>
          <p:nvPr/>
        </p:nvPicPr>
        <p:blipFill>
          <a:blip r:embed="rId2"/>
          <a:stretch/>
        </p:blipFill>
        <p:spPr>
          <a:xfrm>
            <a:off x="123840" y="0"/>
            <a:ext cx="8896320" cy="685800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11280" y="1623960"/>
            <a:ext cx="8137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盖士人读书，第一要有志，第二要有识，第三要有恒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      ——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《曾国藩家书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1T08:26:28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2:01:12Z</dcterms:modified>
  <cp:revision>26</cp:revision>
  <dc:subject>主题班会课件(分28大类): http://shop62905894.taobao.com</dc:subject>
  <dc:title>主题班会课件(分28大类): http://shop62905894.taobao.com</dc:title>
</cp:coreProperties>
</file>